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7.png" ContentType="image/png"/>
  <Override PartName="/ppt/media/image11.wmf" ContentType="image/x-wmf"/>
  <Override PartName="/ppt/media/image4.png" ContentType="image/png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1AF3-B486-427F-984B-DAE20850B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8FFE-B851-4D74-AEAB-DE325FF2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FE57-28AD-45F7-8357-A8D6E8400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AA54-F9E8-492F-AF16-5E3AF5E04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AB81-4476-42CB-B449-A554C365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2A14-61EA-452F-8DE0-490E4250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493F-6AF0-4AA5-B751-9ADA96CB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CF8C-7184-4DD3-A459-B48E194C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E87C-11C1-4B8C-B523-A8783A8A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7ADD-D3EC-4891-B041-A9447378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73FC-D73A-4FC0-ABD1-CC5B67F5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7288-4508-435D-8646-5F2DDE03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2CFB-0C07-428E-9E04-AE53B7DB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B248-0877-4DE9-A262-681A5EB0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0E08-F573-4037-81C4-590A0E3A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5D5B-D9A7-4417-BDEA-24DC0AAD6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C770-98BD-44C2-86A7-E5AE6884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DB602-208D-4849-A921-B8267E26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2BD20-02E2-4649-BC02-603C7C5C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41C6D-9C0F-4408-A0AD-33B4413C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3B988-EC01-48F7-9784-8521D076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54EB1-DEE5-4C73-B949-E25A29D8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B0BC-ED00-405A-AE1D-DA443104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8E8BA-E619-4A25-AC35-CBF3DECB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2FEF8-37BF-48A9-8A9A-2A88C875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E216B-B3E0-41A6-9956-D07D7686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9CA7C-7FE0-46C1-BC7A-759DA4C1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CA45A-FF15-4CFD-AE7E-8DAB1A58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335BF-A88F-4389-BACD-A1AFE0200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708DB-5767-421A-BEF3-797F9210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739D-0405-49A7-89C8-9A72B813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C290-119D-4ED2-982C-32DDEE1D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374F-9D39-4127-B04C-7F15952B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0878-DF70-47D9-B270-2679A915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6242-714B-4422-A81E-0017DD3B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6257-13E2-4682-9262-D23F2BD5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d0dae2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9439-5879-4D11-9E6F-58E6E04141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d0dae2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052C-6D18-4314-B80E-C7171BF265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d0dae2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81BC-A830-4505-A75F-D533DE8156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1413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Кто такой потребите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МОУ «СОШ №56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 Новокузнец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равьева Марина Игор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j0149481"/>
          <p:cNvPicPr/>
          <p:nvPr/>
        </p:nvPicPr>
        <p:blipFill>
          <a:blip r:embed="rId1"/>
          <a:stretch/>
        </p:blipFill>
        <p:spPr>
          <a:xfrm>
            <a:off x="6443640" y="260280"/>
            <a:ext cx="214488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полним таблиц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79280" y="907920"/>
          <a:ext cx="8964720" cy="5761080"/>
        </p:xfrm>
        <a:graphic>
          <a:graphicData uri="http://schemas.openxmlformats.org/drawingml/2006/table">
            <a:tbl>
              <a:tblPr/>
              <a:tblGrid>
                <a:gridCol w="2989440"/>
                <a:gridCol w="2985840"/>
                <a:gridCol w="2989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потре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довлетво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 или усл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Физиологические потребности (еда, вода, одежда, жилье, воспроизведение рода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Социальные потребности (потребность в любви, дружбе, общении с людьми, имеющими те же интересы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Text Box 59"/>
          <p:cNvSpPr/>
          <p:nvPr/>
        </p:nvSpPr>
        <p:spPr>
          <a:xfrm>
            <a:off x="2987640" y="501336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60"/>
          <p:cNvSpPr/>
          <p:nvPr/>
        </p:nvSpPr>
        <p:spPr>
          <a:xfrm>
            <a:off x="3132000" y="1773360"/>
            <a:ext cx="309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купка в магазинах пищевых продуктов, вещей, товаров для дома. Приобретение квартир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63"/>
          <p:cNvSpPr/>
          <p:nvPr/>
        </p:nvSpPr>
        <p:spPr>
          <a:xfrm>
            <a:off x="6156360" y="1844640"/>
            <a:ext cx="316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ищевые продукты, предметы быта, одежда, квартира, мебель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90"/>
          <p:cNvSpPr/>
          <p:nvPr/>
        </p:nvSpPr>
        <p:spPr>
          <a:xfrm>
            <a:off x="3203640" y="4005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ние семьи. Участие в культурной и общественной жиз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91"/>
          <p:cNvSpPr/>
          <p:nvPr/>
        </p:nvSpPr>
        <p:spPr>
          <a:xfrm>
            <a:off x="6227640" y="4005360"/>
            <a:ext cx="29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ние собственной семьи и укрепление родительской. Формирование круга друзей и близки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79280" y="836640"/>
          <a:ext cx="8785440" cy="5832360"/>
        </p:xfrm>
        <a:graphic>
          <a:graphicData uri="http://schemas.openxmlformats.org/drawingml/2006/table">
            <a:tbl>
              <a:tblPr/>
              <a:tblGrid>
                <a:gridCol w="2805120"/>
                <a:gridCol w="3071880"/>
                <a:gridCol w="290844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потре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довлетво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 или усл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Потребность в безопасности (защита от преступников и внешних врагов, защита от нищеты и помощь при болезнях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Text Box 27"/>
          <p:cNvSpPr/>
          <p:nvPr/>
        </p:nvSpPr>
        <p:spPr>
          <a:xfrm>
            <a:off x="2987640" y="1773360"/>
            <a:ext cx="316872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Установка различных видов защиты своего имущества, информации и пра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Непосредственное участие в защите себя, родных и близких, общест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олучение рабочего мест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полним таблиц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940360" y="1773360"/>
            <a:ext cx="3203640" cy="51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Металлические двери, система сигнализации, страхование имущест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оздание внутренних и внешних вооруженных сил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Оказание мед. помощи, социальной защиты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полним таблиц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79280" y="907920"/>
          <a:ext cx="8964720" cy="5761080"/>
        </p:xfrm>
        <a:graphic>
          <a:graphicData uri="http://schemas.openxmlformats.org/drawingml/2006/table">
            <a:tbl>
              <a:tblPr/>
              <a:tblGrid>
                <a:gridCol w="2808360"/>
                <a:gridCol w="3166920"/>
                <a:gridCol w="29894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потре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довлетво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 или усл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 Потребность в уважении (со стороны других людей и самоуважения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 Потребность в самореализации (в развитии своих возможностей и способностей и их активном использовании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Text Box 21"/>
          <p:cNvSpPr/>
          <p:nvPr/>
        </p:nvSpPr>
        <p:spPr>
          <a:xfrm>
            <a:off x="2987640" y="501336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59280" y="1844640"/>
            <a:ext cx="309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сокий уровень реализации себя в работе, семье, общественной деяте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6156360" y="1844640"/>
            <a:ext cx="316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чественное выполнение всех жизненных прав, обязанностей и возможн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2987640" y="4076640"/>
            <a:ext cx="331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чение образования (в том числе дополнительного). Добиваться решения поставленных жизненных зада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6227640" y="4005360"/>
            <a:ext cx="29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учение в школе, колледже, ВУЗе. Устроиться на работу, соответствующую твоим склонностям и интереса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Игр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«Волшебная палочка»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072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Правил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 каждого из вас есть волшебная палочка, которая может исполнить одно заветное желани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кажите чего бы вы хотели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язательно употребив слов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«потребители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" name="Группа 9"/>
          <p:cNvGrpSpPr/>
          <p:nvPr/>
        </p:nvGrpSpPr>
        <p:grpSpPr>
          <a:xfrm>
            <a:off x="7862760" y="160560"/>
            <a:ext cx="1149480" cy="2620800"/>
            <a:chOff x="7862760" y="160560"/>
            <a:chExt cx="1149480" cy="2620800"/>
          </a:xfrm>
        </p:grpSpPr>
        <p:grpSp>
          <p:nvGrpSpPr>
            <p:cNvPr id="202" name="Group 9"/>
            <p:cNvGrpSpPr/>
            <p:nvPr/>
          </p:nvGrpSpPr>
          <p:grpSpPr>
            <a:xfrm>
              <a:off x="7862760" y="160560"/>
              <a:ext cx="1149480" cy="2620800"/>
              <a:chOff x="7862760" y="160560"/>
              <a:chExt cx="1149480" cy="2620800"/>
            </a:xfrm>
          </p:grpSpPr>
          <p:sp>
            <p:nvSpPr>
              <p:cNvPr id="203" name="AutoShape 7"/>
              <p:cNvSpPr/>
              <p:nvPr/>
            </p:nvSpPr>
            <p:spPr>
              <a:xfrm rot="811800">
                <a:off x="7956000" y="260280"/>
                <a:ext cx="962280" cy="914400"/>
              </a:xfrm>
              <a:prstGeom prst="pie">
                <a:avLst/>
              </a:prstGeom>
              <a:gradFill rotWithShape="0">
                <a:gsLst>
                  <a:gs pos="0">
                    <a:srgbClr val="d0dae2"/>
                  </a:gs>
                  <a:gs pos="100000">
                    <a:srgbClr val="99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  <a:effectLst>
                <a:outerShdw dist="53966" dir="13500000" blurRad="0" rotWithShape="0">
                  <a:srgbClr val="e7edf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Line 8"/>
              <p:cNvSpPr/>
              <p:nvPr/>
            </p:nvSpPr>
            <p:spPr>
              <a:xfrm flipH="1">
                <a:off x="8101080" y="981000"/>
                <a:ext cx="288720" cy="1800360"/>
              </a:xfrm>
              <a:prstGeom prst="lin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5" name="Прямая соединительная линия 7"/>
            <p:cNvSpPr/>
            <p:nvPr/>
          </p:nvSpPr>
          <p:spPr>
            <a:xfrm flipH="1">
              <a:off x="7929720" y="928440"/>
              <a:ext cx="428400" cy="1428840"/>
            </a:xfrm>
            <a:prstGeom prst="line">
              <a:avLst/>
            </a:prstGeom>
            <a:ln w="9360">
              <a:solidFill>
                <a:srgbClr val="83b1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6" descr="j0205582"/>
          <p:cNvPicPr/>
          <p:nvPr/>
        </p:nvPicPr>
        <p:blipFill>
          <a:blip r:embed="rId1"/>
          <a:stretch/>
        </p:blipFill>
        <p:spPr>
          <a:xfrm>
            <a:off x="0" y="3573360"/>
            <a:ext cx="1944720" cy="17845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686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ловеческие потребности безграничны, а ресурсов для их удовлетворения недостаточ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ка должна ка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но лучше обеспечи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юдей материальны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лагами из ограниченног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личества ресурсов, которым о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полагает. А каждый потребитель должен ста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ациональным потребителе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Picture 5" descr="j0199283"/>
          <p:cNvPicPr/>
          <p:nvPr/>
        </p:nvPicPr>
        <p:blipFill>
          <a:blip r:embed="rId2"/>
          <a:stretch/>
        </p:blipFill>
        <p:spPr>
          <a:xfrm>
            <a:off x="7093080" y="2349360"/>
            <a:ext cx="1841400" cy="1654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j0234266"/>
          <p:cNvPicPr/>
          <p:nvPr/>
        </p:nvPicPr>
        <p:blipFill>
          <a:blip r:embed="rId3"/>
          <a:stretch/>
        </p:blipFill>
        <p:spPr>
          <a:xfrm>
            <a:off x="0" y="1773360"/>
            <a:ext cx="2089080" cy="2036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j0292152"/>
          <p:cNvPicPr/>
          <p:nvPr/>
        </p:nvPicPr>
        <p:blipFill>
          <a:blip r:embed="rId4"/>
          <a:stretch/>
        </p:blipFill>
        <p:spPr>
          <a:xfrm>
            <a:off x="7236000" y="4724280"/>
            <a:ext cx="1538280" cy="1825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j0251871"/>
          <p:cNvPicPr/>
          <p:nvPr/>
        </p:nvPicPr>
        <p:blipFill>
          <a:blip r:embed="rId5"/>
          <a:stretch/>
        </p:blipFill>
        <p:spPr>
          <a:xfrm>
            <a:off x="6877080" y="836640"/>
            <a:ext cx="19051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7138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ациональный потреб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ратит деньги только на то, в чем он действительно нуждается, что приносит ем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ибольшую польз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циональный потребитель – очень разборчивый челове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Picture 4" descr="рациональный потребитель"/>
          <p:cNvPicPr/>
          <p:nvPr/>
        </p:nvPicPr>
        <p:blipFill>
          <a:blip r:embed="rId1"/>
          <a:stretch/>
        </p:blipFill>
        <p:spPr>
          <a:xfrm>
            <a:off x="4643280" y="1989000"/>
            <a:ext cx="4294440" cy="3175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j0300840"/>
          <p:cNvPicPr/>
          <p:nvPr/>
        </p:nvPicPr>
        <p:blipFill>
          <a:blip r:embed="rId2"/>
          <a:stretch/>
        </p:blipFill>
        <p:spPr>
          <a:xfrm>
            <a:off x="971640" y="2781360"/>
            <a:ext cx="259236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Задача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помни, какие покупки ты и твоя семья сделала за последнюю неделю. Выпиши эти покупки с их стоимостью. Распредели покупки по следующим группам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68360" y="2781360"/>
          <a:ext cx="8229600" cy="2590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обходим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елате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естиж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 Box 38"/>
          <p:cNvSpPr/>
          <p:nvPr/>
        </p:nvSpPr>
        <p:spPr>
          <a:xfrm>
            <a:off x="395280" y="5516640"/>
            <a:ext cx="84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делай вывод, какой ты покупатель рациональный или нет. Объясни почем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полни таблицу «Важность отдельных товаров». В графе «Товары» перечисли товары, которые удовлетворяют данную потребность; в графе «Необходимость» условными обозначениями «+», «-» или «+/-» отметь необходимость данного товара для удовлетворения этой потребности: «+» - товар нельзя заменить никаким другим товаром (например: хлеб); «-» - товар имеет заменитель (например, ветчина – мясо); «+/-» - товар заменить нечем только в определенных случаях (например, лимон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95280" y="4292640"/>
          <a:ext cx="8424720" cy="2378160"/>
        </p:xfrm>
        <a:graphic>
          <a:graphicData uri="http://schemas.openxmlformats.org/drawingml/2006/table">
            <a:tbl>
              <a:tblPr/>
              <a:tblGrid>
                <a:gridCol w="2809800"/>
                <a:gridCol w="2805120"/>
                <a:gridCol w="280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треб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обходим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зиолог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ци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уваж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безопас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самовыраж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л 12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ведите примеры некоторых своих потребностей. Какие блага (товары и услуги) нужны, чтобы их удовлетвори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2282400" y="1556280"/>
            <a:ext cx="7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§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Задание экономист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68360" y="1125360"/>
          <a:ext cx="8229600" cy="4483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упленный тов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то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де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това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тра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чеб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нев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ранда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ней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зи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AutoShape 73">
            <a:hlinkClick r:id="rId1" action="ppaction://hlinksldjump"/>
          </p:cNvPr>
          <p:cNvSpPr/>
          <p:nvPr/>
        </p:nvSpPr>
        <p:spPr>
          <a:xfrm>
            <a:off x="6156360" y="5950080"/>
            <a:ext cx="2808360" cy="620640"/>
          </a:xfrm>
          <a:prstGeom prst="flowChartAlternateProcess">
            <a:avLst/>
          </a:prstGeom>
          <a:gradFill rotWithShape="0">
            <a:gsLst>
              <a:gs pos="0">
                <a:srgbClr val="99ccff"/>
              </a:gs>
              <a:gs pos="100000">
                <a:srgbClr val="d0dae2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Задание экономист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1268280"/>
          <a:ext cx="8229600" cy="44830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упленный тов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то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де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това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тра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ры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чеб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нев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ры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ры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ранда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ней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зи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AutoShape 66"/>
          <p:cNvSpPr/>
          <p:nvPr/>
        </p:nvSpPr>
        <p:spPr>
          <a:xfrm>
            <a:off x="1763640" y="220500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AutoShape 67"/>
          <p:cNvSpPr/>
          <p:nvPr/>
        </p:nvSpPr>
        <p:spPr>
          <a:xfrm>
            <a:off x="2050920" y="2637000"/>
            <a:ext cx="289080" cy="21564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AutoShape 68"/>
          <p:cNvSpPr/>
          <p:nvPr/>
        </p:nvSpPr>
        <p:spPr>
          <a:xfrm>
            <a:off x="2050920" y="220500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AutoShape 69"/>
          <p:cNvSpPr/>
          <p:nvPr/>
        </p:nvSpPr>
        <p:spPr>
          <a:xfrm>
            <a:off x="1763640" y="3141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70"/>
          <p:cNvSpPr/>
          <p:nvPr/>
        </p:nvSpPr>
        <p:spPr>
          <a:xfrm>
            <a:off x="2050920" y="3141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AutoShape 71"/>
          <p:cNvSpPr/>
          <p:nvPr/>
        </p:nvSpPr>
        <p:spPr>
          <a:xfrm>
            <a:off x="2050920" y="357336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AutoShape 72"/>
          <p:cNvSpPr/>
          <p:nvPr/>
        </p:nvSpPr>
        <p:spPr>
          <a:xfrm>
            <a:off x="1763640" y="357336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AutoShape 73"/>
          <p:cNvSpPr/>
          <p:nvPr/>
        </p:nvSpPr>
        <p:spPr>
          <a:xfrm>
            <a:off x="2050920" y="407664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AutoShape 74"/>
          <p:cNvSpPr/>
          <p:nvPr/>
        </p:nvSpPr>
        <p:spPr>
          <a:xfrm>
            <a:off x="2050920" y="4508640"/>
            <a:ext cx="289080" cy="21564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AutoShape 75"/>
          <p:cNvSpPr/>
          <p:nvPr/>
        </p:nvSpPr>
        <p:spPr>
          <a:xfrm>
            <a:off x="2050920" y="4941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AutoShape 76"/>
          <p:cNvSpPr/>
          <p:nvPr/>
        </p:nvSpPr>
        <p:spPr>
          <a:xfrm>
            <a:off x="2050920" y="5373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j0205462"/>
          <p:cNvPicPr/>
          <p:nvPr/>
        </p:nvPicPr>
        <p:blipFill>
          <a:blip r:embed="rId1"/>
          <a:stretch/>
        </p:blipFill>
        <p:spPr>
          <a:xfrm>
            <a:off x="7378560" y="5100480"/>
            <a:ext cx="1765440" cy="1757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j0183328"/>
          <p:cNvPicPr/>
          <p:nvPr/>
        </p:nvPicPr>
        <p:blipFill>
          <a:blip r:embed="rId2"/>
          <a:stretch/>
        </p:blipFill>
        <p:spPr>
          <a:xfrm>
            <a:off x="7000920" y="1357200"/>
            <a:ext cx="1806480" cy="18147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дача 1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магазине рядом со школой альбом для рисования стоит 20 рублей, а в магазине через 10 автобусных остановок – 17 рублей. В каком магазине покупка альбома обойдется дешевле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2825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от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льбо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ля рисования в магазине рядом со школо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тоит дорож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его с точки зрения экономики выгоднее купи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ак как на приобретение более дешевого альбома придетс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атить врем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а дорогу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10 остановок) 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еньги на дорогу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68360" y="25653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571680" y="1643040"/>
            <a:ext cx="74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продается в единственном магазин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Задача 2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971640" y="234936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214200" y="10000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каком случае цена на глобус увеличитс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71680" y="2214720"/>
            <a:ext cx="745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продается в каждом книжном магазин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71680" y="278604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стало модно ставить на письменный стол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71680" y="328608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можно заменить картой мира, занимающей     мало мес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71680" y="414324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глобусе поставил свою подпись Президент Российской Федерации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9" descr="глобус"/>
          <p:cNvPicPr/>
          <p:nvPr/>
        </p:nvPicPr>
        <p:blipFill>
          <a:blip r:embed="rId1"/>
          <a:stretch/>
        </p:blipFill>
        <p:spPr>
          <a:xfrm>
            <a:off x="7396200" y="0"/>
            <a:ext cx="1747800" cy="20718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4"/>
          <p:cNvSpPr/>
          <p:nvPr/>
        </p:nvSpPr>
        <p:spPr>
          <a:xfrm>
            <a:off x="214200" y="5072040"/>
            <a:ext cx="892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вод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Цен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это то, что плати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требител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Если его цена не устраивает, он ищет такой же, но более дешевый товар либо другой товар, отвечающий тем же самым требования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50104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-177840"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то такой потребитель и какую роль он играет в экономике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79280" y="1557360"/>
            <a:ext cx="8715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итель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– это такой участник экономики, которым может быть отдельный человек, целое предприятие и даже государство, имеющий материальные и духовные потребности и возможности их удовлетворить, т. е. средства для покупки товаров и услуг, и, наконец, желание и умение использовать их п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значени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7" descr="j0149481"/>
          <p:cNvPicPr/>
          <p:nvPr/>
        </p:nvPicPr>
        <p:blipFill>
          <a:blip r:embed="rId1"/>
          <a:stretch/>
        </p:blipFill>
        <p:spPr>
          <a:xfrm>
            <a:off x="6999120" y="486900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9" descr="j0285360"/>
          <p:cNvPicPr/>
          <p:nvPr/>
        </p:nvPicPr>
        <p:blipFill>
          <a:blip r:embed="rId1"/>
          <a:stretch/>
        </p:blipFill>
        <p:spPr>
          <a:xfrm>
            <a:off x="6886440" y="0"/>
            <a:ext cx="2257560" cy="2781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думай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3739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куда заводы и фабри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знают, какую продукцию им над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пуска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95280" y="2637000"/>
            <a:ext cx="799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 об этом напоминает потребитель. Он покупает только нужные вещи, и если объем покупок увеличивается, то это является для производителей сигналом к действи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95280" y="522936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ителя в первую очередь характеризует наличие потребност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спомним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«Сказку о рыбаке и рыбке»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А.С. Пушкин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84358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олотая рыбка исполня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желания жадной старухи, 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том уплыла от нее и старика, поняв, чт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ност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люде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езграничн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5" descr="золотая рыбка сказка"/>
          <p:cNvPicPr/>
          <p:nvPr/>
        </p:nvPicPr>
        <p:blipFill>
          <a:blip r:embed="rId1"/>
          <a:stretch/>
        </p:blipFill>
        <p:spPr>
          <a:xfrm>
            <a:off x="5940360" y="1268280"/>
            <a:ext cx="2952720" cy="2148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старуха"/>
          <p:cNvPicPr/>
          <p:nvPr/>
        </p:nvPicPr>
        <p:blipFill>
          <a:blip r:embed="rId2"/>
          <a:stretch/>
        </p:blipFill>
        <p:spPr>
          <a:xfrm>
            <a:off x="324000" y="4365720"/>
            <a:ext cx="319248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авайте вспомним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84360" y="1700280"/>
            <a:ext cx="813564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н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это надобность, нужда в чем-либо, требующая удовлетвор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826920" y="4365720"/>
            <a:ext cx="7993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изиологические, потребность в безопасности, социальные, потребность в уважении, потребность в самореализа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104292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684360" y="105264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значает термин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«потребность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611280" y="350028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виды потребностей вы знает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2:08:58Z</dcterms:created>
  <dc:creator>Sviridenkona</dc:creator>
  <dc:description/>
  <dc:language>en-US</dc:language>
  <cp:lastModifiedBy>Sviridenkona</cp:lastModifiedBy>
  <dcterms:modified xsi:type="dcterms:W3CDTF">2010-02-25T02:13:27Z</dcterms:modified>
  <cp:revision>44</cp:revision>
  <dc:subject/>
  <dc:title>Школа как потребитель</dc:title>
</cp:coreProperties>
</file>